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Welcome participants.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F627F8-20F4-44B3-AAA7-4FD267AAB0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0E8BD6-763F-4F94-BB3C-049C567031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60A8DB-031D-451E-ACF3-73E5CFD6F3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7294A7-B049-4252-9EC6-0CA3E547E86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4A2527-F871-461B-A718-5F179F3E9BD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0C4A7C-845C-4E1B-A03B-D8E28AF075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A730FC-543B-4235-8558-861D308CFB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F2A19A-BADA-4161-920D-77CEC31259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70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FA3641-88B6-4A13-BDC4-B4ECE6F22D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139431-FDB2-4D25-84BF-AB222B0B43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8554ED-F702-4996-BF31-37158CA6E6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19AA08-7A8F-404C-9B17-03A5EA329B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" descr=""/>
          <p:cNvPicPr/>
          <p:nvPr/>
        </p:nvPicPr>
        <p:blipFill>
          <a:blip r:embed="rId2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462440" y="624492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C46C9-3F02-4858-9EB3-792F6C6B699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2" descr=""/>
          <p:cNvPicPr/>
          <p:nvPr/>
        </p:nvPicPr>
        <p:blipFill>
          <a:blip r:embed="rId3"/>
          <a:stretch/>
        </p:blipFill>
        <p:spPr>
          <a:xfrm>
            <a:off x="260280" y="5506920"/>
            <a:ext cx="1652760" cy="455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"/>
          <p:cNvSpPr/>
          <p:nvPr/>
        </p:nvSpPr>
        <p:spPr>
          <a:xfrm>
            <a:off x="0" y="0"/>
            <a:ext cx="9144000" cy="6535800"/>
          </a:xfrm>
          <a:prstGeom prst="rect">
            <a:avLst/>
          </a:prstGeom>
          <a:gradFill rotWithShape="0">
            <a:gsLst>
              <a:gs pos="0">
                <a:srgbClr val="d1d1f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55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46" name="Text Box 4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CEA28-B6B7-48D1-B54F-AD49982AFC2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1600200"/>
            <a:ext cx="8076960" cy="23623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490d8"/>
                </a:solidFill>
                <a:latin typeface="Tahoma"/>
                <a:ea typeface="Tahoma"/>
              </a:rPr>
              <a:t>Math CAMPPP 2012</a:t>
            </a:r>
            <a:endParaRPr b="0" lang="en-US" sz="48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914040" y="3352320"/>
            <a:ext cx="7620120" cy="35053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42478"/>
                </a:solidFill>
                <a:latin typeface="Tahoma"/>
                <a:ea typeface="Tahoma"/>
              </a:rPr>
              <a:t>Different Ways of Thinking About F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8" descr=""/>
          <p:cNvPicPr/>
          <p:nvPr/>
        </p:nvPicPr>
        <p:blipFill>
          <a:blip r:embed="rId2"/>
          <a:stretch/>
        </p:blipFill>
        <p:spPr>
          <a:xfrm>
            <a:off x="152280" y="76320"/>
            <a:ext cx="2590920" cy="152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024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Learning Goal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19040" y="117432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will deepen our understanding of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he different meanings of f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how our own experiences may bias us in terms of the type of fractions we default to and/or the type of representations we sel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B4D6D-B4D3-44B3-BA8A-B5ADA9E1D61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54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A4686-89F4-4E6C-AE10-7DDC95CD1C3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Placemat Activity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80880" y="18284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ord your understanding of fractions (what you remember from school, contexts you use them, representations for…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cuss the information recorded by each person and consolidate it in the centre of the place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F13CD-CC9A-4988-9234-0D9EC8C4BD5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"/>
          <p:cNvPicPr/>
          <p:nvPr/>
        </p:nvPicPr>
        <p:blipFill>
          <a:blip r:embed="rId1"/>
          <a:stretch/>
        </p:blipFill>
        <p:spPr>
          <a:xfrm>
            <a:off x="5943600" y="228600"/>
            <a:ext cx="1592280" cy="149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6" descr=""/>
          <p:cNvPicPr/>
          <p:nvPr/>
        </p:nvPicPr>
        <p:blipFill>
          <a:blip r:embed="rId1"/>
          <a:stretch/>
        </p:blipFill>
        <p:spPr>
          <a:xfrm>
            <a:off x="3809880" y="1703520"/>
            <a:ext cx="2743200" cy="2997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7" descr=""/>
          <p:cNvPicPr/>
          <p:nvPr/>
        </p:nvPicPr>
        <p:blipFill>
          <a:blip r:embed="rId2"/>
          <a:stretch/>
        </p:blipFill>
        <p:spPr>
          <a:xfrm>
            <a:off x="7315200" y="3994200"/>
            <a:ext cx="1438200" cy="15714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 txBox="1"/>
          <p:nvPr/>
        </p:nvSpPr>
        <p:spPr>
          <a:xfrm>
            <a:off x="380880" y="15933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a variety of manipulatives, identify a fraction and then represent it in as many ways as pos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ord each model on a sticky no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Representing Fraction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3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CA154-F7A0-44C6-A1BA-2634379C6A0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Sort and Discus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304920" y="20570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t your sticky notes on the chart paper under each of the different meanings of f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cuss placement with others as you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3F3F4-1315-49CB-BC86-F6917FB9B29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6" descr=""/>
          <p:cNvPicPr/>
          <p:nvPr/>
        </p:nvPicPr>
        <p:blipFill>
          <a:blip r:embed="rId1"/>
          <a:stretch/>
        </p:blipFill>
        <p:spPr>
          <a:xfrm>
            <a:off x="5638680" y="762120"/>
            <a:ext cx="2032200" cy="11430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7" descr=""/>
          <p:cNvPicPr/>
          <p:nvPr/>
        </p:nvPicPr>
        <p:blipFill>
          <a:blip r:embed="rId2"/>
          <a:stretch/>
        </p:blipFill>
        <p:spPr>
          <a:xfrm>
            <a:off x="3086280" y="4495680"/>
            <a:ext cx="3705120" cy="2076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Making Meaning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361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ganize into 7 group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group takes one sheet or faction mea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 with your group to organize and annotate to add mea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99D3C-EB02-4D4C-9C75-60EB888D32C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>
            <a:off x="5181480" y="838080"/>
            <a:ext cx="3233880" cy="1811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Debrief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87440" y="12110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hat criteria did you use to group the sticky notes on your pag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hich ones were difficult to pla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hich ones did you chose to move to another page and wh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hat questions do you hav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How might this sort of activity relate to the mathematical proces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20EBE-FF3D-4D0F-80C8-0A8EF4D4FEA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2" descr=""/>
          <p:cNvPicPr/>
          <p:nvPr/>
        </p:nvPicPr>
        <p:blipFill>
          <a:blip r:embed="rId1"/>
          <a:stretch/>
        </p:blipFill>
        <p:spPr>
          <a:xfrm>
            <a:off x="7122960" y="533520"/>
            <a:ext cx="1314720" cy="7398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3" descr="C:\Documents and Settings\dblair\Local Settings\Temporary Internet Files\Content.IE5\NXCL9D97\MC900433934[1].PNG"/>
          <p:cNvPicPr/>
          <p:nvPr/>
        </p:nvPicPr>
        <p:blipFill>
          <a:blip r:embed="rId2"/>
          <a:stretch/>
        </p:blipFill>
        <p:spPr>
          <a:xfrm>
            <a:off x="5715000" y="5079960"/>
            <a:ext cx="1666800" cy="1666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SC</dc:creator>
  <dc:description/>
  <dc:language>en-US</dc:language>
  <cp:lastModifiedBy>Blair, Danielle</cp:lastModifiedBy>
  <dcterms:modified xsi:type="dcterms:W3CDTF">2012-07-13T21:36:07Z</dcterms:modified>
  <cp:revision>32</cp:revision>
  <dc:subject/>
  <dc:title>&lt;Title&gt;</dc:title>
</cp:coreProperties>
</file>